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E2F1-21B9-43AD-9338-145774A4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B69E-9FC5-43C8-847A-3F6135A4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4C3-244E-4F91-8FAC-9F2F0590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6D8-76EB-43C9-AEE1-158498F6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614-055E-4203-9BCD-15BE4A83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C8F-BC05-41AE-8E2A-F81CDB93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66F-8560-4835-AC5A-E11CE90B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D26-2B82-4B24-8635-A8A60128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541-2300-4BDB-BC24-69943E14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4B2-36D4-4895-A8A1-6AA2916E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380-466A-4A6C-BCB4-3FC23BBC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130-A0E7-4F96-A9C6-04BEF63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A25-0491-4285-B11E-D8E808D9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9E1-AD78-4CA0-9346-E75F423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4166-756E-45E9-B46F-48869FD4B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glish (11 &amp; 12), History, Government, Sciences, Math, Languages, Computer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required to complete AP Exam (Ma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-Feb – Guidanc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omputer Gaming, Culinary Arts, Dance, Dentistry, Elementary Education, Information Technology, Law, Media, Meteorology, Music Education, Orthodontics, Pharmacy, Photography, Physical Therap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0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,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ing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EM Magnet@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.T.E.M. Magnet@B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, Technology, Engineering &amp; Mathematics Magnet Program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-based instruction for high ability math and science students from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day BHS, Half-day 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s 11, 12 only (6-8 stud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BHS credits,15 college credits /y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, April Sophomor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End User</cp:lastModifiedBy>
  <dcterms:modified xsi:type="dcterms:W3CDTF">2013-03-15T14:05:52Z</dcterms:modified>
  <cp:revision>51</cp:revision>
  <dc:subject/>
  <dc:title>Berwick Area High School</dc:title>
</cp:coreProperties>
</file>